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FB-149F-488C-A70B-4CD9A926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324-6C28-42E6-90DC-CD21283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AA7-8DE5-4201-9A3B-99D9077D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15B-74C2-441C-B6C2-B8519B3D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B92-31A2-475A-9CDD-5B0D787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CDB-5459-46DF-A5C1-3773BFC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FD4-6B3B-43E4-BB28-A70F43F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A88-293A-4527-BE70-7BA3AD5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FC8-033E-4458-A30A-6A13B7E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A60-33F5-4379-8968-8B5E00D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D0E-EEBB-40A8-B45D-26CA354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4D1-2027-4BA6-A743-FB99BA8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7BC-394F-4C71-A1BF-D5952CF01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5.jpeg"/><Relationship Id="rId4" Type="http://schemas.openxmlformats.org/officeDocument/2006/relationships/image" Target="../media/image3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Возвышение Москв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516360" y="115920"/>
            <a:ext cx="23382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оль центра объединения претендо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6394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Freeform 4"/>
          <p:cNvSpPr/>
          <p:nvPr/>
        </p:nvSpPr>
        <p:spPr>
          <a:xfrm>
            <a:off x="190440" y="3700440"/>
            <a:ext cx="2851200" cy="300816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3008160"/>
              <a:gd name="textAreaBottom" fmla="*/ 3008520 h 3008160"/>
            </a:gdLst>
            <a:ahLst/>
            <a:rect l="textAreaLeft" t="textAreaTop" r="textAreaRight" b="textAreaBottom"/>
            <a:pathLst>
              <a:path w="1796" h="1895">
                <a:moveTo>
                  <a:pt x="1389" y="1743"/>
                </a:moveTo>
                <a:cubicBezTo>
                  <a:pt x="1394" y="1718"/>
                  <a:pt x="1398" y="1693"/>
                  <a:pt x="1404" y="1668"/>
                </a:cubicBezTo>
                <a:cubicBezTo>
                  <a:pt x="1406" y="1629"/>
                  <a:pt x="1399" y="1581"/>
                  <a:pt x="1443" y="1566"/>
                </a:cubicBezTo>
                <a:cubicBezTo>
                  <a:pt x="1508" y="1569"/>
                  <a:pt x="1570" y="1581"/>
                  <a:pt x="1635" y="1584"/>
                </a:cubicBezTo>
                <a:cubicBezTo>
                  <a:pt x="1698" y="1582"/>
                  <a:pt x="1721" y="1602"/>
                  <a:pt x="1737" y="1554"/>
                </a:cubicBezTo>
                <a:cubicBezTo>
                  <a:pt x="1734" y="1533"/>
                  <a:pt x="1728" y="1522"/>
                  <a:pt x="1722" y="1503"/>
                </a:cubicBezTo>
                <a:cubicBezTo>
                  <a:pt x="1739" y="1451"/>
                  <a:pt x="1733" y="1391"/>
                  <a:pt x="1758" y="1341"/>
                </a:cubicBezTo>
                <a:cubicBezTo>
                  <a:pt x="1761" y="1325"/>
                  <a:pt x="1766" y="1311"/>
                  <a:pt x="1779" y="1302"/>
                </a:cubicBezTo>
                <a:cubicBezTo>
                  <a:pt x="1796" y="1276"/>
                  <a:pt x="1790" y="1210"/>
                  <a:pt x="1791" y="1191"/>
                </a:cubicBezTo>
                <a:cubicBezTo>
                  <a:pt x="1791" y="1188"/>
                  <a:pt x="1786" y="1112"/>
                  <a:pt x="1785" y="1104"/>
                </a:cubicBezTo>
                <a:cubicBezTo>
                  <a:pt x="1784" y="1099"/>
                  <a:pt x="1783" y="1092"/>
                  <a:pt x="1779" y="1089"/>
                </a:cubicBezTo>
                <a:cubicBezTo>
                  <a:pt x="1772" y="1084"/>
                  <a:pt x="1755" y="1083"/>
                  <a:pt x="1755" y="1083"/>
                </a:cubicBezTo>
                <a:cubicBezTo>
                  <a:pt x="1743" y="1064"/>
                  <a:pt x="1746" y="1047"/>
                  <a:pt x="1758" y="1029"/>
                </a:cubicBezTo>
                <a:cubicBezTo>
                  <a:pt x="1770" y="979"/>
                  <a:pt x="1718" y="987"/>
                  <a:pt x="1683" y="984"/>
                </a:cubicBezTo>
                <a:cubicBezTo>
                  <a:pt x="1657" y="975"/>
                  <a:pt x="1671" y="979"/>
                  <a:pt x="1641" y="975"/>
                </a:cubicBezTo>
                <a:cubicBezTo>
                  <a:pt x="1620" y="968"/>
                  <a:pt x="1591" y="945"/>
                  <a:pt x="1584" y="924"/>
                </a:cubicBezTo>
                <a:cubicBezTo>
                  <a:pt x="1587" y="879"/>
                  <a:pt x="1583" y="897"/>
                  <a:pt x="1593" y="867"/>
                </a:cubicBezTo>
                <a:cubicBezTo>
                  <a:pt x="1594" y="864"/>
                  <a:pt x="1599" y="866"/>
                  <a:pt x="1602" y="864"/>
                </a:cubicBezTo>
                <a:cubicBezTo>
                  <a:pt x="1608" y="860"/>
                  <a:pt x="1614" y="856"/>
                  <a:pt x="1620" y="852"/>
                </a:cubicBezTo>
                <a:cubicBezTo>
                  <a:pt x="1634" y="843"/>
                  <a:pt x="1642" y="825"/>
                  <a:pt x="1656" y="816"/>
                </a:cubicBezTo>
                <a:cubicBezTo>
                  <a:pt x="1665" y="810"/>
                  <a:pt x="1674" y="807"/>
                  <a:pt x="1683" y="801"/>
                </a:cubicBezTo>
                <a:cubicBezTo>
                  <a:pt x="1690" y="780"/>
                  <a:pt x="1680" y="804"/>
                  <a:pt x="1695" y="786"/>
                </a:cubicBezTo>
                <a:cubicBezTo>
                  <a:pt x="1703" y="776"/>
                  <a:pt x="1705" y="759"/>
                  <a:pt x="1707" y="747"/>
                </a:cubicBezTo>
                <a:cubicBezTo>
                  <a:pt x="1700" y="695"/>
                  <a:pt x="1714" y="710"/>
                  <a:pt x="1683" y="690"/>
                </a:cubicBezTo>
                <a:cubicBezTo>
                  <a:pt x="1677" y="686"/>
                  <a:pt x="1670" y="683"/>
                  <a:pt x="1665" y="678"/>
                </a:cubicBezTo>
                <a:cubicBezTo>
                  <a:pt x="1659" y="672"/>
                  <a:pt x="1647" y="660"/>
                  <a:pt x="1647" y="660"/>
                </a:cubicBezTo>
                <a:cubicBezTo>
                  <a:pt x="1640" y="639"/>
                  <a:pt x="1654" y="623"/>
                  <a:pt x="1668" y="609"/>
                </a:cubicBezTo>
                <a:cubicBezTo>
                  <a:pt x="1664" y="591"/>
                  <a:pt x="1665" y="573"/>
                  <a:pt x="1650" y="561"/>
                </a:cubicBezTo>
                <a:cubicBezTo>
                  <a:pt x="1640" y="553"/>
                  <a:pt x="1636" y="553"/>
                  <a:pt x="1623" y="549"/>
                </a:cubicBezTo>
                <a:cubicBezTo>
                  <a:pt x="1620" y="548"/>
                  <a:pt x="1614" y="546"/>
                  <a:pt x="1614" y="546"/>
                </a:cubicBezTo>
                <a:cubicBezTo>
                  <a:pt x="1592" y="553"/>
                  <a:pt x="1611" y="535"/>
                  <a:pt x="1599" y="525"/>
                </a:cubicBezTo>
                <a:cubicBezTo>
                  <a:pt x="1592" y="520"/>
                  <a:pt x="1575" y="519"/>
                  <a:pt x="1575" y="519"/>
                </a:cubicBezTo>
                <a:cubicBezTo>
                  <a:pt x="1557" y="507"/>
                  <a:pt x="1540" y="498"/>
                  <a:pt x="1521" y="489"/>
                </a:cubicBezTo>
                <a:cubicBezTo>
                  <a:pt x="1515" y="486"/>
                  <a:pt x="1509" y="485"/>
                  <a:pt x="1503" y="483"/>
                </a:cubicBezTo>
                <a:cubicBezTo>
                  <a:pt x="1496" y="481"/>
                  <a:pt x="1485" y="471"/>
                  <a:pt x="1485" y="471"/>
                </a:cubicBezTo>
                <a:cubicBezTo>
                  <a:pt x="1471" y="450"/>
                  <a:pt x="1475" y="460"/>
                  <a:pt x="1470" y="441"/>
                </a:cubicBezTo>
                <a:cubicBezTo>
                  <a:pt x="1474" y="423"/>
                  <a:pt x="1480" y="406"/>
                  <a:pt x="1488" y="390"/>
                </a:cubicBezTo>
                <a:cubicBezTo>
                  <a:pt x="1485" y="336"/>
                  <a:pt x="1500" y="316"/>
                  <a:pt x="1452" y="309"/>
                </a:cubicBezTo>
                <a:cubicBezTo>
                  <a:pt x="1438" y="304"/>
                  <a:pt x="1420" y="294"/>
                  <a:pt x="1407" y="285"/>
                </a:cubicBezTo>
                <a:cubicBezTo>
                  <a:pt x="1401" y="276"/>
                  <a:pt x="1383" y="264"/>
                  <a:pt x="1383" y="264"/>
                </a:cubicBezTo>
                <a:cubicBezTo>
                  <a:pt x="1377" y="255"/>
                  <a:pt x="1359" y="243"/>
                  <a:pt x="1359" y="243"/>
                </a:cubicBezTo>
                <a:cubicBezTo>
                  <a:pt x="1352" y="232"/>
                  <a:pt x="1318" y="201"/>
                  <a:pt x="1305" y="198"/>
                </a:cubicBezTo>
                <a:cubicBezTo>
                  <a:pt x="1296" y="184"/>
                  <a:pt x="1291" y="174"/>
                  <a:pt x="1278" y="165"/>
                </a:cubicBezTo>
                <a:cubicBezTo>
                  <a:pt x="1275" y="155"/>
                  <a:pt x="1266" y="148"/>
                  <a:pt x="1263" y="138"/>
                </a:cubicBezTo>
                <a:cubicBezTo>
                  <a:pt x="1249" y="97"/>
                  <a:pt x="1230" y="63"/>
                  <a:pt x="1185" y="48"/>
                </a:cubicBezTo>
                <a:cubicBezTo>
                  <a:pt x="1147" y="53"/>
                  <a:pt x="1171" y="55"/>
                  <a:pt x="1146" y="63"/>
                </a:cubicBezTo>
                <a:cubicBezTo>
                  <a:pt x="1139" y="74"/>
                  <a:pt x="1134" y="80"/>
                  <a:pt x="1122" y="84"/>
                </a:cubicBezTo>
                <a:cubicBezTo>
                  <a:pt x="1116" y="93"/>
                  <a:pt x="1113" y="102"/>
                  <a:pt x="1107" y="111"/>
                </a:cubicBezTo>
                <a:cubicBezTo>
                  <a:pt x="1103" y="189"/>
                  <a:pt x="1105" y="184"/>
                  <a:pt x="1032" y="189"/>
                </a:cubicBezTo>
                <a:cubicBezTo>
                  <a:pt x="1024" y="212"/>
                  <a:pt x="1035" y="234"/>
                  <a:pt x="1008" y="216"/>
                </a:cubicBezTo>
                <a:cubicBezTo>
                  <a:pt x="1006" y="209"/>
                  <a:pt x="998" y="205"/>
                  <a:pt x="996" y="198"/>
                </a:cubicBezTo>
                <a:cubicBezTo>
                  <a:pt x="977" y="128"/>
                  <a:pt x="1007" y="151"/>
                  <a:pt x="894" y="147"/>
                </a:cubicBezTo>
                <a:cubicBezTo>
                  <a:pt x="891" y="146"/>
                  <a:pt x="888" y="145"/>
                  <a:pt x="885" y="144"/>
                </a:cubicBezTo>
                <a:cubicBezTo>
                  <a:pt x="882" y="142"/>
                  <a:pt x="879" y="139"/>
                  <a:pt x="876" y="138"/>
                </a:cubicBezTo>
                <a:cubicBezTo>
                  <a:pt x="870" y="135"/>
                  <a:pt x="858" y="132"/>
                  <a:pt x="858" y="132"/>
                </a:cubicBezTo>
                <a:cubicBezTo>
                  <a:pt x="817" y="137"/>
                  <a:pt x="809" y="153"/>
                  <a:pt x="777" y="174"/>
                </a:cubicBezTo>
                <a:cubicBezTo>
                  <a:pt x="761" y="185"/>
                  <a:pt x="739" y="190"/>
                  <a:pt x="720" y="195"/>
                </a:cubicBezTo>
                <a:cubicBezTo>
                  <a:pt x="697" y="194"/>
                  <a:pt x="674" y="195"/>
                  <a:pt x="651" y="192"/>
                </a:cubicBezTo>
                <a:cubicBezTo>
                  <a:pt x="641" y="191"/>
                  <a:pt x="642" y="182"/>
                  <a:pt x="636" y="177"/>
                </a:cubicBezTo>
                <a:cubicBezTo>
                  <a:pt x="631" y="172"/>
                  <a:pt x="618" y="165"/>
                  <a:pt x="618" y="165"/>
                </a:cubicBezTo>
                <a:cubicBezTo>
                  <a:pt x="605" y="146"/>
                  <a:pt x="583" y="130"/>
                  <a:pt x="564" y="117"/>
                </a:cubicBezTo>
                <a:cubicBezTo>
                  <a:pt x="555" y="104"/>
                  <a:pt x="541" y="99"/>
                  <a:pt x="528" y="90"/>
                </a:cubicBezTo>
                <a:cubicBezTo>
                  <a:pt x="525" y="88"/>
                  <a:pt x="519" y="84"/>
                  <a:pt x="519" y="84"/>
                </a:cubicBezTo>
                <a:cubicBezTo>
                  <a:pt x="508" y="62"/>
                  <a:pt x="491" y="56"/>
                  <a:pt x="471" y="45"/>
                </a:cubicBezTo>
                <a:cubicBezTo>
                  <a:pt x="444" y="30"/>
                  <a:pt x="417" y="10"/>
                  <a:pt x="387" y="0"/>
                </a:cubicBezTo>
                <a:cubicBezTo>
                  <a:pt x="343" y="3"/>
                  <a:pt x="299" y="3"/>
                  <a:pt x="255" y="6"/>
                </a:cubicBezTo>
                <a:cubicBezTo>
                  <a:pt x="230" y="8"/>
                  <a:pt x="206" y="16"/>
                  <a:pt x="180" y="18"/>
                </a:cubicBezTo>
                <a:cubicBezTo>
                  <a:pt x="192" y="68"/>
                  <a:pt x="169" y="65"/>
                  <a:pt x="156" y="105"/>
                </a:cubicBezTo>
                <a:cubicBezTo>
                  <a:pt x="157" y="131"/>
                  <a:pt x="156" y="179"/>
                  <a:pt x="177" y="204"/>
                </a:cubicBezTo>
                <a:cubicBezTo>
                  <a:pt x="211" y="243"/>
                  <a:pt x="170" y="186"/>
                  <a:pt x="198" y="222"/>
                </a:cubicBezTo>
                <a:cubicBezTo>
                  <a:pt x="211" y="239"/>
                  <a:pt x="221" y="256"/>
                  <a:pt x="228" y="276"/>
                </a:cubicBezTo>
                <a:cubicBezTo>
                  <a:pt x="230" y="282"/>
                  <a:pt x="234" y="294"/>
                  <a:pt x="234" y="294"/>
                </a:cubicBezTo>
                <a:cubicBezTo>
                  <a:pt x="232" y="367"/>
                  <a:pt x="236" y="394"/>
                  <a:pt x="201" y="447"/>
                </a:cubicBezTo>
                <a:cubicBezTo>
                  <a:pt x="200" y="460"/>
                  <a:pt x="200" y="499"/>
                  <a:pt x="189" y="513"/>
                </a:cubicBezTo>
                <a:cubicBezTo>
                  <a:pt x="180" y="524"/>
                  <a:pt x="179" y="524"/>
                  <a:pt x="174" y="537"/>
                </a:cubicBezTo>
                <a:cubicBezTo>
                  <a:pt x="169" y="548"/>
                  <a:pt x="166" y="566"/>
                  <a:pt x="159" y="576"/>
                </a:cubicBezTo>
                <a:cubicBezTo>
                  <a:pt x="153" y="584"/>
                  <a:pt x="141" y="604"/>
                  <a:pt x="138" y="612"/>
                </a:cubicBezTo>
                <a:cubicBezTo>
                  <a:pt x="132" y="629"/>
                  <a:pt x="119" y="641"/>
                  <a:pt x="111" y="657"/>
                </a:cubicBezTo>
                <a:cubicBezTo>
                  <a:pt x="106" y="667"/>
                  <a:pt x="99" y="687"/>
                  <a:pt x="99" y="687"/>
                </a:cubicBezTo>
                <a:cubicBezTo>
                  <a:pt x="101" y="758"/>
                  <a:pt x="96" y="782"/>
                  <a:pt x="105" y="834"/>
                </a:cubicBezTo>
                <a:cubicBezTo>
                  <a:pt x="112" y="878"/>
                  <a:pt x="138" y="918"/>
                  <a:pt x="147" y="963"/>
                </a:cubicBezTo>
                <a:cubicBezTo>
                  <a:pt x="146" y="982"/>
                  <a:pt x="148" y="1001"/>
                  <a:pt x="144" y="1020"/>
                </a:cubicBezTo>
                <a:cubicBezTo>
                  <a:pt x="142" y="1031"/>
                  <a:pt x="126" y="1047"/>
                  <a:pt x="126" y="1047"/>
                </a:cubicBezTo>
                <a:cubicBezTo>
                  <a:pt x="92" y="1040"/>
                  <a:pt x="82" y="1019"/>
                  <a:pt x="57" y="1002"/>
                </a:cubicBezTo>
                <a:cubicBezTo>
                  <a:pt x="52" y="988"/>
                  <a:pt x="39" y="984"/>
                  <a:pt x="27" y="975"/>
                </a:cubicBezTo>
                <a:cubicBezTo>
                  <a:pt x="21" y="976"/>
                  <a:pt x="14" y="974"/>
                  <a:pt x="9" y="978"/>
                </a:cubicBezTo>
                <a:cubicBezTo>
                  <a:pt x="4" y="982"/>
                  <a:pt x="3" y="996"/>
                  <a:pt x="3" y="996"/>
                </a:cubicBezTo>
                <a:cubicBezTo>
                  <a:pt x="5" y="1042"/>
                  <a:pt x="0" y="1098"/>
                  <a:pt x="15" y="1143"/>
                </a:cubicBezTo>
                <a:cubicBezTo>
                  <a:pt x="17" y="1163"/>
                  <a:pt x="19" y="1187"/>
                  <a:pt x="24" y="1206"/>
                </a:cubicBezTo>
                <a:cubicBezTo>
                  <a:pt x="31" y="1234"/>
                  <a:pt x="49" y="1257"/>
                  <a:pt x="57" y="1284"/>
                </a:cubicBezTo>
                <a:cubicBezTo>
                  <a:pt x="64" y="1309"/>
                  <a:pt x="68" y="1334"/>
                  <a:pt x="87" y="1353"/>
                </a:cubicBezTo>
                <a:cubicBezTo>
                  <a:pt x="96" y="1381"/>
                  <a:pt x="124" y="1408"/>
                  <a:pt x="147" y="1425"/>
                </a:cubicBezTo>
                <a:cubicBezTo>
                  <a:pt x="153" y="1447"/>
                  <a:pt x="173" y="1475"/>
                  <a:pt x="192" y="1488"/>
                </a:cubicBezTo>
                <a:cubicBezTo>
                  <a:pt x="206" y="1510"/>
                  <a:pt x="201" y="1500"/>
                  <a:pt x="210" y="1518"/>
                </a:cubicBezTo>
                <a:cubicBezTo>
                  <a:pt x="222" y="1517"/>
                  <a:pt x="234" y="1517"/>
                  <a:pt x="246" y="1515"/>
                </a:cubicBezTo>
                <a:cubicBezTo>
                  <a:pt x="263" y="1512"/>
                  <a:pt x="257" y="1480"/>
                  <a:pt x="276" y="1470"/>
                </a:cubicBezTo>
                <a:cubicBezTo>
                  <a:pt x="322" y="1447"/>
                  <a:pt x="399" y="1456"/>
                  <a:pt x="438" y="1455"/>
                </a:cubicBezTo>
                <a:cubicBezTo>
                  <a:pt x="464" y="1446"/>
                  <a:pt x="487" y="1452"/>
                  <a:pt x="513" y="1458"/>
                </a:cubicBezTo>
                <a:cubicBezTo>
                  <a:pt x="523" y="1473"/>
                  <a:pt x="532" y="1476"/>
                  <a:pt x="546" y="1485"/>
                </a:cubicBezTo>
                <a:cubicBezTo>
                  <a:pt x="554" y="1497"/>
                  <a:pt x="568" y="1502"/>
                  <a:pt x="582" y="1506"/>
                </a:cubicBezTo>
                <a:cubicBezTo>
                  <a:pt x="591" y="1515"/>
                  <a:pt x="599" y="1517"/>
                  <a:pt x="609" y="1524"/>
                </a:cubicBezTo>
                <a:cubicBezTo>
                  <a:pt x="623" y="1545"/>
                  <a:pt x="615" y="1538"/>
                  <a:pt x="630" y="1548"/>
                </a:cubicBezTo>
                <a:cubicBezTo>
                  <a:pt x="640" y="1562"/>
                  <a:pt x="646" y="1580"/>
                  <a:pt x="660" y="1590"/>
                </a:cubicBezTo>
                <a:cubicBezTo>
                  <a:pt x="665" y="1611"/>
                  <a:pt x="678" y="1622"/>
                  <a:pt x="687" y="1641"/>
                </a:cubicBezTo>
                <a:cubicBezTo>
                  <a:pt x="701" y="1673"/>
                  <a:pt x="685" y="1648"/>
                  <a:pt x="699" y="1668"/>
                </a:cubicBezTo>
                <a:cubicBezTo>
                  <a:pt x="702" y="1680"/>
                  <a:pt x="708" y="1689"/>
                  <a:pt x="711" y="1701"/>
                </a:cubicBezTo>
                <a:cubicBezTo>
                  <a:pt x="712" y="1710"/>
                  <a:pt x="721" y="1781"/>
                  <a:pt x="723" y="1782"/>
                </a:cubicBezTo>
                <a:cubicBezTo>
                  <a:pt x="747" y="1799"/>
                  <a:pt x="782" y="1788"/>
                  <a:pt x="807" y="1803"/>
                </a:cubicBezTo>
                <a:cubicBezTo>
                  <a:pt x="835" y="1820"/>
                  <a:pt x="856" y="1842"/>
                  <a:pt x="882" y="1860"/>
                </a:cubicBezTo>
                <a:cubicBezTo>
                  <a:pt x="894" y="1895"/>
                  <a:pt x="924" y="1879"/>
                  <a:pt x="963" y="1881"/>
                </a:cubicBezTo>
                <a:cubicBezTo>
                  <a:pt x="1176" y="1893"/>
                  <a:pt x="949" y="1882"/>
                  <a:pt x="1119" y="1890"/>
                </a:cubicBezTo>
                <a:cubicBezTo>
                  <a:pt x="1132" y="1889"/>
                  <a:pt x="1145" y="1890"/>
                  <a:pt x="1158" y="1887"/>
                </a:cubicBezTo>
                <a:cubicBezTo>
                  <a:pt x="1162" y="1886"/>
                  <a:pt x="1163" y="1880"/>
                  <a:pt x="1167" y="1878"/>
                </a:cubicBezTo>
                <a:cubicBezTo>
                  <a:pt x="1183" y="1869"/>
                  <a:pt x="1206" y="1856"/>
                  <a:pt x="1224" y="1851"/>
                </a:cubicBezTo>
                <a:cubicBezTo>
                  <a:pt x="1234" y="1845"/>
                  <a:pt x="1241" y="1836"/>
                  <a:pt x="1251" y="1830"/>
                </a:cubicBezTo>
                <a:cubicBezTo>
                  <a:pt x="1255" y="1818"/>
                  <a:pt x="1261" y="1819"/>
                  <a:pt x="1272" y="1812"/>
                </a:cubicBezTo>
                <a:cubicBezTo>
                  <a:pt x="1280" y="1800"/>
                  <a:pt x="1286" y="1801"/>
                  <a:pt x="1299" y="1797"/>
                </a:cubicBezTo>
                <a:cubicBezTo>
                  <a:pt x="1313" y="1777"/>
                  <a:pt x="1333" y="1776"/>
                  <a:pt x="1356" y="1773"/>
                </a:cubicBezTo>
                <a:cubicBezTo>
                  <a:pt x="1374" y="1767"/>
                  <a:pt x="1380" y="1717"/>
                  <a:pt x="1389" y="174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2171880" y="2522520"/>
            <a:ext cx="2224080" cy="2868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68480"/>
              <a:gd name="textAreaBottom" fmla="*/ 2868840 h 2868480"/>
            </a:gdLst>
            <a:ahLst/>
            <a:rect l="textAreaLeft" t="textAreaTop" r="textAreaRight" b="textAreaBottom"/>
            <a:pathLst>
              <a:path w="1401" h="1807">
                <a:moveTo>
                  <a:pt x="483" y="1735"/>
                </a:moveTo>
                <a:cubicBezTo>
                  <a:pt x="466" y="1729"/>
                  <a:pt x="476" y="1734"/>
                  <a:pt x="456" y="1714"/>
                </a:cubicBezTo>
                <a:cubicBezTo>
                  <a:pt x="453" y="1711"/>
                  <a:pt x="447" y="1705"/>
                  <a:pt x="447" y="1705"/>
                </a:cubicBezTo>
                <a:cubicBezTo>
                  <a:pt x="441" y="1687"/>
                  <a:pt x="456" y="1686"/>
                  <a:pt x="471" y="1681"/>
                </a:cubicBezTo>
                <a:cubicBezTo>
                  <a:pt x="474" y="1680"/>
                  <a:pt x="480" y="1678"/>
                  <a:pt x="480" y="1678"/>
                </a:cubicBezTo>
                <a:cubicBezTo>
                  <a:pt x="489" y="1664"/>
                  <a:pt x="500" y="1663"/>
                  <a:pt x="513" y="1654"/>
                </a:cubicBezTo>
                <a:cubicBezTo>
                  <a:pt x="520" y="1655"/>
                  <a:pt x="554" y="1657"/>
                  <a:pt x="555" y="1660"/>
                </a:cubicBezTo>
                <a:cubicBezTo>
                  <a:pt x="567" y="1686"/>
                  <a:pt x="563" y="1752"/>
                  <a:pt x="570" y="1783"/>
                </a:cubicBezTo>
                <a:cubicBezTo>
                  <a:pt x="573" y="1797"/>
                  <a:pt x="592" y="1797"/>
                  <a:pt x="603" y="1801"/>
                </a:cubicBezTo>
                <a:cubicBezTo>
                  <a:pt x="609" y="1803"/>
                  <a:pt x="621" y="1807"/>
                  <a:pt x="621" y="1807"/>
                </a:cubicBezTo>
                <a:cubicBezTo>
                  <a:pt x="640" y="1806"/>
                  <a:pt x="659" y="1806"/>
                  <a:pt x="678" y="1804"/>
                </a:cubicBezTo>
                <a:cubicBezTo>
                  <a:pt x="691" y="1802"/>
                  <a:pt x="714" y="1786"/>
                  <a:pt x="714" y="1786"/>
                </a:cubicBezTo>
                <a:cubicBezTo>
                  <a:pt x="725" y="1753"/>
                  <a:pt x="771" y="1722"/>
                  <a:pt x="804" y="1717"/>
                </a:cubicBezTo>
                <a:cubicBezTo>
                  <a:pt x="809" y="1714"/>
                  <a:pt x="819" y="1708"/>
                  <a:pt x="822" y="1702"/>
                </a:cubicBezTo>
                <a:cubicBezTo>
                  <a:pt x="825" y="1694"/>
                  <a:pt x="828" y="1678"/>
                  <a:pt x="828" y="1678"/>
                </a:cubicBezTo>
                <a:cubicBezTo>
                  <a:pt x="806" y="1663"/>
                  <a:pt x="837" y="1661"/>
                  <a:pt x="849" y="1660"/>
                </a:cubicBezTo>
                <a:cubicBezTo>
                  <a:pt x="880" y="1650"/>
                  <a:pt x="887" y="1632"/>
                  <a:pt x="912" y="1615"/>
                </a:cubicBezTo>
                <a:cubicBezTo>
                  <a:pt x="919" y="1604"/>
                  <a:pt x="925" y="1595"/>
                  <a:pt x="936" y="1588"/>
                </a:cubicBezTo>
                <a:cubicBezTo>
                  <a:pt x="940" y="1574"/>
                  <a:pt x="944" y="1568"/>
                  <a:pt x="954" y="1558"/>
                </a:cubicBezTo>
                <a:cubicBezTo>
                  <a:pt x="959" y="1543"/>
                  <a:pt x="972" y="1535"/>
                  <a:pt x="981" y="1522"/>
                </a:cubicBezTo>
                <a:cubicBezTo>
                  <a:pt x="985" y="1507"/>
                  <a:pt x="995" y="1496"/>
                  <a:pt x="1005" y="1483"/>
                </a:cubicBezTo>
                <a:cubicBezTo>
                  <a:pt x="1011" y="1475"/>
                  <a:pt x="1023" y="1459"/>
                  <a:pt x="1023" y="1459"/>
                </a:cubicBezTo>
                <a:cubicBezTo>
                  <a:pt x="1029" y="1442"/>
                  <a:pt x="1043" y="1420"/>
                  <a:pt x="1053" y="1405"/>
                </a:cubicBezTo>
                <a:cubicBezTo>
                  <a:pt x="1056" y="1393"/>
                  <a:pt x="1061" y="1383"/>
                  <a:pt x="1068" y="1372"/>
                </a:cubicBezTo>
                <a:cubicBezTo>
                  <a:pt x="1072" y="1366"/>
                  <a:pt x="1080" y="1354"/>
                  <a:pt x="1080" y="1354"/>
                </a:cubicBezTo>
                <a:cubicBezTo>
                  <a:pt x="1088" y="1324"/>
                  <a:pt x="1103" y="1302"/>
                  <a:pt x="1131" y="1288"/>
                </a:cubicBezTo>
                <a:cubicBezTo>
                  <a:pt x="1145" y="1281"/>
                  <a:pt x="1136" y="1290"/>
                  <a:pt x="1149" y="1279"/>
                </a:cubicBezTo>
                <a:cubicBezTo>
                  <a:pt x="1162" y="1268"/>
                  <a:pt x="1174" y="1258"/>
                  <a:pt x="1188" y="1249"/>
                </a:cubicBezTo>
                <a:cubicBezTo>
                  <a:pt x="1199" y="1232"/>
                  <a:pt x="1217" y="1227"/>
                  <a:pt x="1236" y="1222"/>
                </a:cubicBezTo>
                <a:cubicBezTo>
                  <a:pt x="1246" y="1220"/>
                  <a:pt x="1263" y="1207"/>
                  <a:pt x="1263" y="1207"/>
                </a:cubicBezTo>
                <a:cubicBezTo>
                  <a:pt x="1268" y="1197"/>
                  <a:pt x="1287" y="1183"/>
                  <a:pt x="1287" y="1183"/>
                </a:cubicBezTo>
                <a:cubicBezTo>
                  <a:pt x="1296" y="1170"/>
                  <a:pt x="1313" y="1159"/>
                  <a:pt x="1326" y="1150"/>
                </a:cubicBezTo>
                <a:cubicBezTo>
                  <a:pt x="1332" y="1146"/>
                  <a:pt x="1344" y="1138"/>
                  <a:pt x="1344" y="1138"/>
                </a:cubicBezTo>
                <a:cubicBezTo>
                  <a:pt x="1349" y="1128"/>
                  <a:pt x="1362" y="1108"/>
                  <a:pt x="1362" y="1108"/>
                </a:cubicBezTo>
                <a:cubicBezTo>
                  <a:pt x="1370" y="1076"/>
                  <a:pt x="1373" y="1052"/>
                  <a:pt x="1392" y="1024"/>
                </a:cubicBezTo>
                <a:cubicBezTo>
                  <a:pt x="1394" y="1012"/>
                  <a:pt x="1398" y="1000"/>
                  <a:pt x="1401" y="988"/>
                </a:cubicBezTo>
                <a:cubicBezTo>
                  <a:pt x="1396" y="961"/>
                  <a:pt x="1395" y="923"/>
                  <a:pt x="1365" y="916"/>
                </a:cubicBezTo>
                <a:cubicBezTo>
                  <a:pt x="1346" y="903"/>
                  <a:pt x="1324" y="901"/>
                  <a:pt x="1305" y="889"/>
                </a:cubicBezTo>
                <a:cubicBezTo>
                  <a:pt x="1296" y="876"/>
                  <a:pt x="1295" y="865"/>
                  <a:pt x="1281" y="856"/>
                </a:cubicBezTo>
                <a:cubicBezTo>
                  <a:pt x="1272" y="843"/>
                  <a:pt x="1273" y="832"/>
                  <a:pt x="1260" y="823"/>
                </a:cubicBezTo>
                <a:cubicBezTo>
                  <a:pt x="1257" y="812"/>
                  <a:pt x="1245" y="793"/>
                  <a:pt x="1245" y="793"/>
                </a:cubicBezTo>
                <a:cubicBezTo>
                  <a:pt x="1239" y="767"/>
                  <a:pt x="1235" y="758"/>
                  <a:pt x="1245" y="721"/>
                </a:cubicBezTo>
                <a:cubicBezTo>
                  <a:pt x="1247" y="713"/>
                  <a:pt x="1258" y="710"/>
                  <a:pt x="1263" y="703"/>
                </a:cubicBezTo>
                <a:cubicBezTo>
                  <a:pt x="1269" y="694"/>
                  <a:pt x="1275" y="685"/>
                  <a:pt x="1281" y="676"/>
                </a:cubicBezTo>
                <a:cubicBezTo>
                  <a:pt x="1286" y="668"/>
                  <a:pt x="1290" y="649"/>
                  <a:pt x="1290" y="649"/>
                </a:cubicBezTo>
                <a:cubicBezTo>
                  <a:pt x="1291" y="608"/>
                  <a:pt x="1289" y="567"/>
                  <a:pt x="1293" y="526"/>
                </a:cubicBezTo>
                <a:cubicBezTo>
                  <a:pt x="1293" y="526"/>
                  <a:pt x="1325" y="478"/>
                  <a:pt x="1329" y="475"/>
                </a:cubicBezTo>
                <a:cubicBezTo>
                  <a:pt x="1350" y="411"/>
                  <a:pt x="1328" y="484"/>
                  <a:pt x="1338" y="319"/>
                </a:cubicBezTo>
                <a:cubicBezTo>
                  <a:pt x="1339" y="307"/>
                  <a:pt x="1350" y="290"/>
                  <a:pt x="1353" y="277"/>
                </a:cubicBezTo>
                <a:cubicBezTo>
                  <a:pt x="1355" y="252"/>
                  <a:pt x="1358" y="239"/>
                  <a:pt x="1362" y="217"/>
                </a:cubicBezTo>
                <a:cubicBezTo>
                  <a:pt x="1365" y="179"/>
                  <a:pt x="1369" y="141"/>
                  <a:pt x="1371" y="103"/>
                </a:cubicBezTo>
                <a:cubicBezTo>
                  <a:pt x="1367" y="71"/>
                  <a:pt x="1358" y="42"/>
                  <a:pt x="1335" y="19"/>
                </a:cubicBezTo>
                <a:cubicBezTo>
                  <a:pt x="1329" y="0"/>
                  <a:pt x="1315" y="8"/>
                  <a:pt x="1296" y="10"/>
                </a:cubicBezTo>
                <a:cubicBezTo>
                  <a:pt x="1267" y="30"/>
                  <a:pt x="1275" y="46"/>
                  <a:pt x="1257" y="73"/>
                </a:cubicBezTo>
                <a:cubicBezTo>
                  <a:pt x="1249" y="84"/>
                  <a:pt x="1233" y="106"/>
                  <a:pt x="1233" y="106"/>
                </a:cubicBezTo>
                <a:cubicBezTo>
                  <a:pt x="1229" y="117"/>
                  <a:pt x="1217" y="134"/>
                  <a:pt x="1209" y="142"/>
                </a:cubicBezTo>
                <a:cubicBezTo>
                  <a:pt x="1203" y="148"/>
                  <a:pt x="1191" y="160"/>
                  <a:pt x="1191" y="160"/>
                </a:cubicBezTo>
                <a:cubicBezTo>
                  <a:pt x="1179" y="195"/>
                  <a:pt x="1159" y="204"/>
                  <a:pt x="1125" y="208"/>
                </a:cubicBezTo>
                <a:cubicBezTo>
                  <a:pt x="1112" y="212"/>
                  <a:pt x="1099" y="214"/>
                  <a:pt x="1086" y="217"/>
                </a:cubicBezTo>
                <a:cubicBezTo>
                  <a:pt x="1078" y="219"/>
                  <a:pt x="1062" y="223"/>
                  <a:pt x="1062" y="223"/>
                </a:cubicBezTo>
                <a:cubicBezTo>
                  <a:pt x="1030" y="244"/>
                  <a:pt x="1001" y="268"/>
                  <a:pt x="969" y="289"/>
                </a:cubicBezTo>
                <a:cubicBezTo>
                  <a:pt x="966" y="294"/>
                  <a:pt x="932" y="323"/>
                  <a:pt x="927" y="325"/>
                </a:cubicBezTo>
                <a:cubicBezTo>
                  <a:pt x="918" y="329"/>
                  <a:pt x="900" y="334"/>
                  <a:pt x="900" y="334"/>
                </a:cubicBezTo>
                <a:cubicBezTo>
                  <a:pt x="875" y="330"/>
                  <a:pt x="869" y="315"/>
                  <a:pt x="861" y="292"/>
                </a:cubicBezTo>
                <a:cubicBezTo>
                  <a:pt x="859" y="254"/>
                  <a:pt x="869" y="205"/>
                  <a:pt x="825" y="190"/>
                </a:cubicBezTo>
                <a:cubicBezTo>
                  <a:pt x="818" y="179"/>
                  <a:pt x="808" y="163"/>
                  <a:pt x="798" y="154"/>
                </a:cubicBezTo>
                <a:cubicBezTo>
                  <a:pt x="793" y="149"/>
                  <a:pt x="786" y="146"/>
                  <a:pt x="780" y="142"/>
                </a:cubicBezTo>
                <a:cubicBezTo>
                  <a:pt x="775" y="138"/>
                  <a:pt x="762" y="136"/>
                  <a:pt x="762" y="136"/>
                </a:cubicBezTo>
                <a:cubicBezTo>
                  <a:pt x="736" y="140"/>
                  <a:pt x="723" y="149"/>
                  <a:pt x="714" y="175"/>
                </a:cubicBezTo>
                <a:cubicBezTo>
                  <a:pt x="712" y="215"/>
                  <a:pt x="723" y="254"/>
                  <a:pt x="681" y="268"/>
                </a:cubicBezTo>
                <a:cubicBezTo>
                  <a:pt x="669" y="280"/>
                  <a:pt x="655" y="280"/>
                  <a:pt x="639" y="271"/>
                </a:cubicBezTo>
                <a:cubicBezTo>
                  <a:pt x="633" y="267"/>
                  <a:pt x="621" y="259"/>
                  <a:pt x="621" y="259"/>
                </a:cubicBezTo>
                <a:cubicBezTo>
                  <a:pt x="610" y="242"/>
                  <a:pt x="621" y="256"/>
                  <a:pt x="606" y="247"/>
                </a:cubicBezTo>
                <a:cubicBezTo>
                  <a:pt x="600" y="243"/>
                  <a:pt x="588" y="235"/>
                  <a:pt x="588" y="235"/>
                </a:cubicBezTo>
                <a:cubicBezTo>
                  <a:pt x="578" y="220"/>
                  <a:pt x="559" y="213"/>
                  <a:pt x="543" y="205"/>
                </a:cubicBezTo>
                <a:cubicBezTo>
                  <a:pt x="539" y="192"/>
                  <a:pt x="526" y="187"/>
                  <a:pt x="513" y="181"/>
                </a:cubicBezTo>
                <a:cubicBezTo>
                  <a:pt x="507" y="178"/>
                  <a:pt x="501" y="177"/>
                  <a:pt x="495" y="175"/>
                </a:cubicBezTo>
                <a:cubicBezTo>
                  <a:pt x="492" y="174"/>
                  <a:pt x="486" y="172"/>
                  <a:pt x="486" y="172"/>
                </a:cubicBezTo>
                <a:cubicBezTo>
                  <a:pt x="465" y="173"/>
                  <a:pt x="440" y="166"/>
                  <a:pt x="423" y="178"/>
                </a:cubicBezTo>
                <a:cubicBezTo>
                  <a:pt x="400" y="194"/>
                  <a:pt x="410" y="208"/>
                  <a:pt x="372" y="214"/>
                </a:cubicBezTo>
                <a:cubicBezTo>
                  <a:pt x="358" y="221"/>
                  <a:pt x="344" y="229"/>
                  <a:pt x="336" y="244"/>
                </a:cubicBezTo>
                <a:cubicBezTo>
                  <a:pt x="333" y="251"/>
                  <a:pt x="335" y="259"/>
                  <a:pt x="330" y="265"/>
                </a:cubicBezTo>
                <a:cubicBezTo>
                  <a:pt x="326" y="270"/>
                  <a:pt x="318" y="270"/>
                  <a:pt x="312" y="274"/>
                </a:cubicBezTo>
                <a:cubicBezTo>
                  <a:pt x="305" y="294"/>
                  <a:pt x="314" y="331"/>
                  <a:pt x="318" y="352"/>
                </a:cubicBezTo>
                <a:cubicBezTo>
                  <a:pt x="319" y="358"/>
                  <a:pt x="324" y="370"/>
                  <a:pt x="324" y="370"/>
                </a:cubicBezTo>
                <a:cubicBezTo>
                  <a:pt x="329" y="407"/>
                  <a:pt x="329" y="413"/>
                  <a:pt x="366" y="418"/>
                </a:cubicBezTo>
                <a:cubicBezTo>
                  <a:pt x="373" y="447"/>
                  <a:pt x="376" y="487"/>
                  <a:pt x="348" y="505"/>
                </a:cubicBezTo>
                <a:cubicBezTo>
                  <a:pt x="337" y="539"/>
                  <a:pt x="390" y="531"/>
                  <a:pt x="408" y="532"/>
                </a:cubicBezTo>
                <a:cubicBezTo>
                  <a:pt x="423" y="554"/>
                  <a:pt x="401" y="588"/>
                  <a:pt x="381" y="601"/>
                </a:cubicBezTo>
                <a:cubicBezTo>
                  <a:pt x="367" y="622"/>
                  <a:pt x="371" y="612"/>
                  <a:pt x="366" y="628"/>
                </a:cubicBezTo>
                <a:cubicBezTo>
                  <a:pt x="368" y="654"/>
                  <a:pt x="368" y="669"/>
                  <a:pt x="375" y="691"/>
                </a:cubicBezTo>
                <a:cubicBezTo>
                  <a:pt x="371" y="703"/>
                  <a:pt x="367" y="711"/>
                  <a:pt x="354" y="715"/>
                </a:cubicBezTo>
                <a:cubicBezTo>
                  <a:pt x="341" y="734"/>
                  <a:pt x="340" y="792"/>
                  <a:pt x="360" y="799"/>
                </a:cubicBezTo>
                <a:cubicBezTo>
                  <a:pt x="395" y="797"/>
                  <a:pt x="408" y="803"/>
                  <a:pt x="432" y="787"/>
                </a:cubicBezTo>
                <a:cubicBezTo>
                  <a:pt x="441" y="773"/>
                  <a:pt x="437" y="763"/>
                  <a:pt x="444" y="748"/>
                </a:cubicBezTo>
                <a:cubicBezTo>
                  <a:pt x="447" y="741"/>
                  <a:pt x="458" y="744"/>
                  <a:pt x="465" y="742"/>
                </a:cubicBezTo>
                <a:cubicBezTo>
                  <a:pt x="521" y="746"/>
                  <a:pt x="503" y="748"/>
                  <a:pt x="540" y="760"/>
                </a:cubicBezTo>
                <a:cubicBezTo>
                  <a:pt x="555" y="775"/>
                  <a:pt x="563" y="772"/>
                  <a:pt x="585" y="769"/>
                </a:cubicBezTo>
                <a:cubicBezTo>
                  <a:pt x="588" y="768"/>
                  <a:pt x="592" y="769"/>
                  <a:pt x="594" y="766"/>
                </a:cubicBezTo>
                <a:cubicBezTo>
                  <a:pt x="598" y="761"/>
                  <a:pt x="600" y="748"/>
                  <a:pt x="600" y="748"/>
                </a:cubicBezTo>
                <a:cubicBezTo>
                  <a:pt x="597" y="644"/>
                  <a:pt x="612" y="640"/>
                  <a:pt x="519" y="634"/>
                </a:cubicBezTo>
                <a:cubicBezTo>
                  <a:pt x="508" y="627"/>
                  <a:pt x="502" y="628"/>
                  <a:pt x="498" y="616"/>
                </a:cubicBezTo>
                <a:cubicBezTo>
                  <a:pt x="507" y="588"/>
                  <a:pt x="492" y="629"/>
                  <a:pt x="510" y="598"/>
                </a:cubicBezTo>
                <a:cubicBezTo>
                  <a:pt x="514" y="592"/>
                  <a:pt x="514" y="584"/>
                  <a:pt x="516" y="577"/>
                </a:cubicBezTo>
                <a:cubicBezTo>
                  <a:pt x="588" y="582"/>
                  <a:pt x="542" y="575"/>
                  <a:pt x="570" y="583"/>
                </a:cubicBezTo>
                <a:cubicBezTo>
                  <a:pt x="580" y="586"/>
                  <a:pt x="600" y="592"/>
                  <a:pt x="600" y="592"/>
                </a:cubicBezTo>
                <a:cubicBezTo>
                  <a:pt x="606" y="598"/>
                  <a:pt x="615" y="602"/>
                  <a:pt x="618" y="610"/>
                </a:cubicBezTo>
                <a:cubicBezTo>
                  <a:pt x="621" y="619"/>
                  <a:pt x="624" y="631"/>
                  <a:pt x="633" y="637"/>
                </a:cubicBezTo>
                <a:cubicBezTo>
                  <a:pt x="646" y="645"/>
                  <a:pt x="639" y="640"/>
                  <a:pt x="651" y="652"/>
                </a:cubicBezTo>
                <a:cubicBezTo>
                  <a:pt x="758" y="646"/>
                  <a:pt x="679" y="652"/>
                  <a:pt x="723" y="637"/>
                </a:cubicBezTo>
                <a:cubicBezTo>
                  <a:pt x="737" y="644"/>
                  <a:pt x="742" y="650"/>
                  <a:pt x="747" y="664"/>
                </a:cubicBezTo>
                <a:cubicBezTo>
                  <a:pt x="748" y="684"/>
                  <a:pt x="748" y="704"/>
                  <a:pt x="750" y="724"/>
                </a:cubicBezTo>
                <a:cubicBezTo>
                  <a:pt x="750" y="727"/>
                  <a:pt x="756" y="732"/>
                  <a:pt x="753" y="733"/>
                </a:cubicBezTo>
                <a:cubicBezTo>
                  <a:pt x="750" y="735"/>
                  <a:pt x="747" y="729"/>
                  <a:pt x="744" y="727"/>
                </a:cubicBezTo>
                <a:cubicBezTo>
                  <a:pt x="735" y="728"/>
                  <a:pt x="725" y="725"/>
                  <a:pt x="717" y="730"/>
                </a:cubicBezTo>
                <a:cubicBezTo>
                  <a:pt x="712" y="733"/>
                  <a:pt x="711" y="748"/>
                  <a:pt x="711" y="748"/>
                </a:cubicBezTo>
                <a:cubicBezTo>
                  <a:pt x="715" y="772"/>
                  <a:pt x="725" y="774"/>
                  <a:pt x="741" y="790"/>
                </a:cubicBezTo>
                <a:cubicBezTo>
                  <a:pt x="737" y="819"/>
                  <a:pt x="719" y="854"/>
                  <a:pt x="693" y="871"/>
                </a:cubicBezTo>
                <a:cubicBezTo>
                  <a:pt x="688" y="870"/>
                  <a:pt x="672" y="869"/>
                  <a:pt x="666" y="865"/>
                </a:cubicBezTo>
                <a:cubicBezTo>
                  <a:pt x="660" y="861"/>
                  <a:pt x="648" y="853"/>
                  <a:pt x="648" y="853"/>
                </a:cubicBezTo>
                <a:cubicBezTo>
                  <a:pt x="638" y="838"/>
                  <a:pt x="624" y="830"/>
                  <a:pt x="606" y="826"/>
                </a:cubicBezTo>
                <a:cubicBezTo>
                  <a:pt x="585" y="812"/>
                  <a:pt x="595" y="816"/>
                  <a:pt x="576" y="811"/>
                </a:cubicBezTo>
                <a:cubicBezTo>
                  <a:pt x="564" y="813"/>
                  <a:pt x="557" y="812"/>
                  <a:pt x="549" y="820"/>
                </a:cubicBezTo>
                <a:cubicBezTo>
                  <a:pt x="546" y="823"/>
                  <a:pt x="546" y="827"/>
                  <a:pt x="543" y="829"/>
                </a:cubicBezTo>
                <a:cubicBezTo>
                  <a:pt x="538" y="832"/>
                  <a:pt x="530" y="831"/>
                  <a:pt x="525" y="835"/>
                </a:cubicBezTo>
                <a:cubicBezTo>
                  <a:pt x="522" y="837"/>
                  <a:pt x="519" y="839"/>
                  <a:pt x="516" y="841"/>
                </a:cubicBezTo>
                <a:cubicBezTo>
                  <a:pt x="509" y="862"/>
                  <a:pt x="516" y="857"/>
                  <a:pt x="501" y="862"/>
                </a:cubicBezTo>
                <a:cubicBezTo>
                  <a:pt x="490" y="873"/>
                  <a:pt x="479" y="881"/>
                  <a:pt x="465" y="886"/>
                </a:cubicBezTo>
                <a:cubicBezTo>
                  <a:pt x="459" y="892"/>
                  <a:pt x="453" y="898"/>
                  <a:pt x="447" y="904"/>
                </a:cubicBezTo>
                <a:cubicBezTo>
                  <a:pt x="443" y="908"/>
                  <a:pt x="441" y="922"/>
                  <a:pt x="441" y="922"/>
                </a:cubicBezTo>
                <a:cubicBezTo>
                  <a:pt x="440" y="929"/>
                  <a:pt x="442" y="937"/>
                  <a:pt x="438" y="943"/>
                </a:cubicBezTo>
                <a:cubicBezTo>
                  <a:pt x="433" y="951"/>
                  <a:pt x="420" y="948"/>
                  <a:pt x="411" y="949"/>
                </a:cubicBezTo>
                <a:cubicBezTo>
                  <a:pt x="391" y="951"/>
                  <a:pt x="371" y="951"/>
                  <a:pt x="351" y="952"/>
                </a:cubicBezTo>
                <a:cubicBezTo>
                  <a:pt x="336" y="962"/>
                  <a:pt x="338" y="974"/>
                  <a:pt x="318" y="979"/>
                </a:cubicBezTo>
                <a:cubicBezTo>
                  <a:pt x="307" y="987"/>
                  <a:pt x="295" y="988"/>
                  <a:pt x="282" y="991"/>
                </a:cubicBezTo>
                <a:cubicBezTo>
                  <a:pt x="274" y="996"/>
                  <a:pt x="255" y="1003"/>
                  <a:pt x="255" y="1003"/>
                </a:cubicBezTo>
                <a:cubicBezTo>
                  <a:pt x="224" y="1000"/>
                  <a:pt x="205" y="1001"/>
                  <a:pt x="195" y="970"/>
                </a:cubicBezTo>
                <a:cubicBezTo>
                  <a:pt x="200" y="940"/>
                  <a:pt x="197" y="927"/>
                  <a:pt x="222" y="910"/>
                </a:cubicBezTo>
                <a:cubicBezTo>
                  <a:pt x="233" y="857"/>
                  <a:pt x="245" y="794"/>
                  <a:pt x="189" y="775"/>
                </a:cubicBezTo>
                <a:cubicBezTo>
                  <a:pt x="179" y="765"/>
                  <a:pt x="164" y="759"/>
                  <a:pt x="150" y="754"/>
                </a:cubicBezTo>
                <a:cubicBezTo>
                  <a:pt x="120" y="755"/>
                  <a:pt x="90" y="753"/>
                  <a:pt x="60" y="757"/>
                </a:cubicBezTo>
                <a:cubicBezTo>
                  <a:pt x="53" y="758"/>
                  <a:pt x="42" y="769"/>
                  <a:pt x="42" y="769"/>
                </a:cubicBezTo>
                <a:cubicBezTo>
                  <a:pt x="28" y="790"/>
                  <a:pt x="37" y="785"/>
                  <a:pt x="21" y="790"/>
                </a:cubicBezTo>
                <a:cubicBezTo>
                  <a:pt x="17" y="796"/>
                  <a:pt x="10" y="799"/>
                  <a:pt x="6" y="805"/>
                </a:cubicBezTo>
                <a:cubicBezTo>
                  <a:pt x="3" y="810"/>
                  <a:pt x="0" y="823"/>
                  <a:pt x="0" y="823"/>
                </a:cubicBezTo>
                <a:cubicBezTo>
                  <a:pt x="3" y="848"/>
                  <a:pt x="0" y="854"/>
                  <a:pt x="24" y="859"/>
                </a:cubicBezTo>
                <a:cubicBezTo>
                  <a:pt x="34" y="873"/>
                  <a:pt x="32" y="880"/>
                  <a:pt x="36" y="898"/>
                </a:cubicBezTo>
                <a:cubicBezTo>
                  <a:pt x="43" y="928"/>
                  <a:pt x="57" y="947"/>
                  <a:pt x="75" y="970"/>
                </a:cubicBezTo>
                <a:cubicBezTo>
                  <a:pt x="79" y="976"/>
                  <a:pt x="80" y="987"/>
                  <a:pt x="87" y="988"/>
                </a:cubicBezTo>
                <a:cubicBezTo>
                  <a:pt x="95" y="989"/>
                  <a:pt x="103" y="990"/>
                  <a:pt x="111" y="991"/>
                </a:cubicBezTo>
                <a:cubicBezTo>
                  <a:pt x="117" y="997"/>
                  <a:pt x="126" y="1001"/>
                  <a:pt x="129" y="1009"/>
                </a:cubicBezTo>
                <a:cubicBezTo>
                  <a:pt x="131" y="1015"/>
                  <a:pt x="130" y="1023"/>
                  <a:pt x="135" y="1027"/>
                </a:cubicBezTo>
                <a:cubicBezTo>
                  <a:pt x="160" y="1044"/>
                  <a:pt x="177" y="1058"/>
                  <a:pt x="207" y="1063"/>
                </a:cubicBezTo>
                <a:cubicBezTo>
                  <a:pt x="219" y="1075"/>
                  <a:pt x="220" y="1086"/>
                  <a:pt x="225" y="1102"/>
                </a:cubicBezTo>
                <a:cubicBezTo>
                  <a:pt x="226" y="1123"/>
                  <a:pt x="225" y="1180"/>
                  <a:pt x="237" y="1204"/>
                </a:cubicBezTo>
                <a:cubicBezTo>
                  <a:pt x="252" y="1234"/>
                  <a:pt x="277" y="1221"/>
                  <a:pt x="300" y="1237"/>
                </a:cubicBezTo>
                <a:cubicBezTo>
                  <a:pt x="310" y="1244"/>
                  <a:pt x="316" y="1251"/>
                  <a:pt x="327" y="1255"/>
                </a:cubicBezTo>
                <a:cubicBezTo>
                  <a:pt x="337" y="1265"/>
                  <a:pt x="346" y="1265"/>
                  <a:pt x="357" y="1273"/>
                </a:cubicBezTo>
                <a:cubicBezTo>
                  <a:pt x="371" y="1294"/>
                  <a:pt x="362" y="1289"/>
                  <a:pt x="381" y="1294"/>
                </a:cubicBezTo>
                <a:cubicBezTo>
                  <a:pt x="389" y="1319"/>
                  <a:pt x="377" y="1280"/>
                  <a:pt x="387" y="1333"/>
                </a:cubicBezTo>
                <a:cubicBezTo>
                  <a:pt x="388" y="1339"/>
                  <a:pt x="393" y="1351"/>
                  <a:pt x="393" y="1351"/>
                </a:cubicBezTo>
                <a:cubicBezTo>
                  <a:pt x="396" y="1400"/>
                  <a:pt x="389" y="1426"/>
                  <a:pt x="438" y="1432"/>
                </a:cubicBezTo>
                <a:cubicBezTo>
                  <a:pt x="435" y="1523"/>
                  <a:pt x="444" y="1552"/>
                  <a:pt x="372" y="1600"/>
                </a:cubicBezTo>
                <a:cubicBezTo>
                  <a:pt x="365" y="1611"/>
                  <a:pt x="365" y="1617"/>
                  <a:pt x="354" y="1624"/>
                </a:cubicBezTo>
                <a:cubicBezTo>
                  <a:pt x="357" y="1642"/>
                  <a:pt x="356" y="1660"/>
                  <a:pt x="360" y="1678"/>
                </a:cubicBezTo>
                <a:cubicBezTo>
                  <a:pt x="365" y="1704"/>
                  <a:pt x="421" y="1704"/>
                  <a:pt x="438" y="1708"/>
                </a:cubicBezTo>
                <a:cubicBezTo>
                  <a:pt x="449" y="1716"/>
                  <a:pt x="444" y="1717"/>
                  <a:pt x="453" y="1708"/>
                </a:cubicBezTo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588000" y="256536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о-Восточная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659640" y="4437000"/>
            <a:ext cx="24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кое княжество Литовское и Рус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H="1">
            <a:off x="3779640" y="2997360"/>
            <a:ext cx="3384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763280" y="4797360"/>
            <a:ext cx="496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900000" y="198900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одное 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сположение на перекрестке торгов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юз московских князей и церк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Дальновидная политика московских кн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971640" y="333360"/>
            <a:ext cx="73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ричины возвышения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516720" y="0"/>
            <a:ext cx="2494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верь располагалась на Вол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верское княжеств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никло в 124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ым тверским князе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л брат Александра Невского Ярослав Яросла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6469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624720" y="4076640"/>
            <a:ext cx="251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сковское княжеств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разовалось в 1276 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ым самостоятельны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сковским князем ст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ын Александра Невск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иил (1276–13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194142"/>
          <p:cNvPicPr/>
          <p:nvPr/>
        </p:nvPicPr>
        <p:blipFill>
          <a:blip r:embed="rId2"/>
          <a:stretch/>
        </p:blipFill>
        <p:spPr>
          <a:xfrm>
            <a:off x="468360" y="3068640"/>
            <a:ext cx="576360" cy="51912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 flipH="1">
            <a:off x="826920" y="1197000"/>
            <a:ext cx="60501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Древняя Тверь"/>
          <p:cNvPicPr/>
          <p:nvPr/>
        </p:nvPicPr>
        <p:blipFill>
          <a:blip r:embed="rId3"/>
          <a:stretch/>
        </p:blipFill>
        <p:spPr>
          <a:xfrm>
            <a:off x="0" y="0"/>
            <a:ext cx="3708360" cy="24890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708360" y="0"/>
            <a:ext cx="1943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епления Древней Т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j0194142"/>
          <p:cNvPicPr/>
          <p:nvPr/>
        </p:nvPicPr>
        <p:blipFill>
          <a:blip r:embed="rId4"/>
          <a:stretch/>
        </p:blipFill>
        <p:spPr>
          <a:xfrm>
            <a:off x="1476360" y="4292640"/>
            <a:ext cx="576360" cy="519120"/>
          </a:xfrm>
          <a:prstGeom prst="rect">
            <a:avLst/>
          </a:prstGeom>
          <a:ln w="0">
            <a:noFill/>
          </a:ln>
        </p:spPr>
      </p:pic>
      <p:sp>
        <p:nvSpPr>
          <p:cNvPr id="137" name="Line 10"/>
          <p:cNvSpPr/>
          <p:nvPr/>
        </p:nvSpPr>
        <p:spPr>
          <a:xfrm flipH="1" flipV="1">
            <a:off x="1907640" y="4653000"/>
            <a:ext cx="496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Даниил Александрович Московский"/>
          <p:cNvPicPr/>
          <p:nvPr/>
        </p:nvPicPr>
        <p:blipFill>
          <a:blip r:embed="rId5"/>
          <a:stretch/>
        </p:blipFill>
        <p:spPr>
          <a:xfrm>
            <a:off x="3492360" y="2824200"/>
            <a:ext cx="2951280" cy="4033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0" y="6216480"/>
            <a:ext cx="34196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язь Даниил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с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02920" y="1933200"/>
            <a:ext cx="3600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, на ваш взгляд, Москва, а не Тверь стала центром собирания Русских зем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476360" y="549360"/>
            <a:ext cx="626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Борьба Москвы и Тв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(рабочий лист 3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30" descr="12"/>
          <p:cNvPicPr/>
          <p:nvPr/>
        </p:nvPicPr>
        <p:blipFill>
          <a:blip r:embed="rId1"/>
          <a:stretch/>
        </p:blipFill>
        <p:spPr>
          <a:xfrm>
            <a:off x="5486400" y="1749600"/>
            <a:ext cx="31147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Какие причины предопределили лидирующее положение Москвы в собирании зем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395280" y="5877000"/>
            <a:ext cx="790560" cy="691920"/>
          </a:xfrm>
          <a:prstGeom prst="leftArrow">
            <a:avLst>
              <a:gd name="adj1" fmla="val 50000"/>
              <a:gd name="adj2" fmla="val 28564"/>
            </a:avLst>
          </a:prstGeom>
          <a:solidFill>
            <a:srgbClr val="f354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87280" y="134136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раграфы 9 – 10 (стр. 103-111) перес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писать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то знал, что Москве царством бытии, Кто ведал, что Москве государством слыти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дготовить сообщение о Д. Донском (желающ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1132 г. новгородский летописец с горечью записал: «И раздрася вся земля Русска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сто лет уже галицкий летописец с тоской напишет: «Начнем же рассказывать о бесчисленных ратях и великих трудах, и частых войнах, и многих крамолах, и частых восстаниях, и многих мятежах»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0400" y="5012280"/>
            <a:ext cx="80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О каком периоде в истории Руси повествуют летопис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Что такое феодальная раздроблен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98400" y="765000"/>
            <a:ext cx="7689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«И почему было Москве царством быти? И хто то знал, что Москве государством слыти?»</a:t>
            </a:r>
            <a:br>
              <a:rPr sz="4800"/>
            </a:br>
            <a:br>
              <a:rPr sz="48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«Сказание об убиении Даниила Суздальского и о начале Москвы». XVII 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13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Цель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283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ичины, способствующие превращению Москвы в центр объединения русских зем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040" y="1844640"/>
            <a:ext cx="76899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Возвышение Мос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1187280" y="189000"/>
            <a:ext cx="6480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116000" y="2060640"/>
            <a:ext cx="6912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Предпосылки объ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зможные центры объединения.   Причины возвышения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Борьба Москвы и Т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2340000" y="2924280"/>
            <a:ext cx="4681440" cy="115092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посылки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979640" y="3213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195640" y="34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1042920" y="836640"/>
            <a:ext cx="3024360" cy="115236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05928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5508360" y="1700280"/>
            <a:ext cx="136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2268000" y="4005360"/>
            <a:ext cx="1008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435640" y="4076640"/>
            <a:ext cx="865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5651640" y="836640"/>
            <a:ext cx="3024000" cy="115236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5580000" y="4724280"/>
            <a:ext cx="3024360" cy="115272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611280" y="4724280"/>
            <a:ext cx="3024000" cy="115272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2484360" y="4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250560" y="5734080"/>
            <a:ext cx="865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69236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2843280" y="5877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 flipH="1">
            <a:off x="6012000" y="5950080"/>
            <a:ext cx="7207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7380360" y="5950080"/>
            <a:ext cx="71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8101080" y="5805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>
            <a:off x="7164360" y="4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 flipV="1">
            <a:off x="7524720" y="407628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2"/>
          <p:cNvSpPr/>
          <p:nvPr/>
        </p:nvSpPr>
        <p:spPr>
          <a:xfrm>
            <a:off x="2411280" y="2133720"/>
            <a:ext cx="4681800" cy="86508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посылки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979640" y="3213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195640" y="34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39640" y="1197000"/>
            <a:ext cx="302436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771640" y="1844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6227280" y="177336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 flipH="1">
            <a:off x="3203280" y="299736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580000" y="2997360"/>
            <a:ext cx="576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5651640" y="1268280"/>
            <a:ext cx="3024000" cy="43200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076720" y="3500280"/>
            <a:ext cx="3024360" cy="50508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971640" y="3429000"/>
            <a:ext cx="3240000" cy="57636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-эконом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179280" y="260280"/>
            <a:ext cx="324036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ст численности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1258920" y="90792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6"/>
          <p:cNvSpPr/>
          <p:nvPr/>
        </p:nvSpPr>
        <p:spPr>
          <a:xfrm>
            <a:off x="5867280" y="189000"/>
            <a:ext cx="302436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цион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 flipV="1">
            <a:off x="7164360" y="9075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4932360" y="5013360"/>
            <a:ext cx="302436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альное един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сских зем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9"/>
          <p:cNvSpPr/>
          <p:nvPr/>
        </p:nvSpPr>
        <p:spPr>
          <a:xfrm>
            <a:off x="5724360" y="4221000"/>
            <a:ext cx="3240360" cy="72072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хранение самобы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 государ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3492360" y="5734080"/>
            <a:ext cx="273708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авления от 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7740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 flipH="1">
            <a:off x="5579640" y="4005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 flipH="1">
            <a:off x="4355640" y="3933720"/>
            <a:ext cx="1295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0" y="2492280"/>
            <a:ext cx="2556000" cy="79236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сстано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льского хозяй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7"/>
          <p:cNvSpPr/>
          <p:nvPr/>
        </p:nvSpPr>
        <p:spPr>
          <a:xfrm>
            <a:off x="0" y="4292640"/>
            <a:ext cx="3024360" cy="64764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витие ремесл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оргов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8"/>
          <p:cNvSpPr/>
          <p:nvPr/>
        </p:nvSpPr>
        <p:spPr>
          <a:xfrm>
            <a:off x="6119640" y="2852640"/>
            <a:ext cx="3024360" cy="50328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тенциальные цен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9"/>
          <p:cNvSpPr/>
          <p:nvPr/>
        </p:nvSpPr>
        <p:spPr>
          <a:xfrm>
            <a:off x="1042920" y="5084640"/>
            <a:ext cx="3024360" cy="648000"/>
          </a:xfrm>
          <a:prstGeom prst="ellipse">
            <a:avLst/>
          </a:prstGeom>
          <a:solidFill>
            <a:srgbClr val="e63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ст феод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емлевл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H="1">
            <a:off x="7956360" y="335772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1258920" y="32846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H="1">
            <a:off x="161892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3"/>
          <p:cNvSpPr/>
          <p:nvPr/>
        </p:nvSpPr>
        <p:spPr>
          <a:xfrm>
            <a:off x="3348000" y="4005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516360" y="259920"/>
            <a:ext cx="2376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 Владимире не было постоянной династи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кое владимирское княжение переходило к разным княжеским линиям по воле х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64692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516720" y="1557360"/>
            <a:ext cx="2627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язань и Нижний Новгород слишком близки к гран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516720" y="2421000"/>
            <a:ext cx="26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товские и ярославские князья давно обособилис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е претендовали на великое кн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88000" y="3933720"/>
            <a:ext cx="25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строма и Вологда слишком далеко на сев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j0194142"/>
          <p:cNvPicPr/>
          <p:nvPr/>
        </p:nvPicPr>
        <p:blipFill>
          <a:blip r:embed="rId2"/>
          <a:stretch/>
        </p:blipFill>
        <p:spPr>
          <a:xfrm>
            <a:off x="3203640" y="3716280"/>
            <a:ext cx="576360" cy="519120"/>
          </a:xfrm>
          <a:prstGeom prst="rect">
            <a:avLst/>
          </a:prstGeom>
          <a:ln w="0">
            <a:noFill/>
          </a:ln>
        </p:spPr>
      </p:pic>
      <p:sp>
        <p:nvSpPr>
          <p:cNvPr id="106" name="Line 9"/>
          <p:cNvSpPr/>
          <p:nvPr/>
        </p:nvSpPr>
        <p:spPr>
          <a:xfrm flipH="1">
            <a:off x="3564000" y="692280"/>
            <a:ext cx="31687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j0194142"/>
          <p:cNvPicPr/>
          <p:nvPr/>
        </p:nvPicPr>
        <p:blipFill>
          <a:blip r:embed="rId3"/>
          <a:stretch/>
        </p:blipFill>
        <p:spPr>
          <a:xfrm>
            <a:off x="2987640" y="5445000"/>
            <a:ext cx="576360" cy="51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0194142"/>
          <p:cNvPicPr/>
          <p:nvPr/>
        </p:nvPicPr>
        <p:blipFill>
          <a:blip r:embed="rId4"/>
          <a:stretch/>
        </p:blipFill>
        <p:spPr>
          <a:xfrm>
            <a:off x="5651640" y="3573360"/>
            <a:ext cx="57600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j0194142"/>
          <p:cNvPicPr/>
          <p:nvPr/>
        </p:nvPicPr>
        <p:blipFill>
          <a:blip r:embed="rId5"/>
          <a:stretch/>
        </p:blipFill>
        <p:spPr>
          <a:xfrm>
            <a:off x="2556000" y="2565360"/>
            <a:ext cx="576000" cy="51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194142"/>
          <p:cNvPicPr/>
          <p:nvPr/>
        </p:nvPicPr>
        <p:blipFill>
          <a:blip r:embed="rId6"/>
          <a:stretch/>
        </p:blipFill>
        <p:spPr>
          <a:xfrm>
            <a:off x="2700360" y="2060640"/>
            <a:ext cx="576360" cy="51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0194142"/>
          <p:cNvPicPr/>
          <p:nvPr/>
        </p:nvPicPr>
        <p:blipFill>
          <a:blip r:embed="rId7"/>
          <a:stretch/>
        </p:blipFill>
        <p:spPr>
          <a:xfrm>
            <a:off x="3492360" y="1844640"/>
            <a:ext cx="576360" cy="51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j0194142"/>
          <p:cNvPicPr/>
          <p:nvPr/>
        </p:nvPicPr>
        <p:blipFill>
          <a:blip r:embed="rId8"/>
          <a:stretch/>
        </p:blipFill>
        <p:spPr>
          <a:xfrm>
            <a:off x="3059280" y="404640"/>
            <a:ext cx="576000" cy="519120"/>
          </a:xfrm>
          <a:prstGeom prst="rect">
            <a:avLst/>
          </a:prstGeom>
          <a:ln w="0">
            <a:noFill/>
          </a:ln>
        </p:spPr>
      </p:pic>
      <p:sp>
        <p:nvSpPr>
          <p:cNvPr id="113" name="Line 17"/>
          <p:cNvSpPr/>
          <p:nvPr/>
        </p:nvSpPr>
        <p:spPr>
          <a:xfrm flipH="1">
            <a:off x="5866920" y="1989000"/>
            <a:ext cx="1081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>
            <a:off x="3276360" y="2060640"/>
            <a:ext cx="360036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H="1" flipV="1">
            <a:off x="3131640" y="2421000"/>
            <a:ext cx="3961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 flipH="1">
            <a:off x="2843280" y="2708280"/>
            <a:ext cx="417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H="1" flipV="1">
            <a:off x="3780000" y="2276280"/>
            <a:ext cx="2952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H="1" flipV="1">
            <a:off x="3492000" y="836640"/>
            <a:ext cx="324036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58:14Z</dcterms:created>
  <dc:creator>Быкова</dc:creator>
  <dc:description/>
  <dc:language>en-US</dc:language>
  <cp:lastModifiedBy>1</cp:lastModifiedBy>
  <dcterms:modified xsi:type="dcterms:W3CDTF">2022-03-09T16:30:21Z</dcterms:modified>
  <cp:revision>105</cp:revision>
  <dc:subject/>
  <dc:title>Слайд 1</dc:title>
</cp:coreProperties>
</file>